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A7A-B8B9-427E-B911-358C0952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CD1-21EA-403B-A086-4109F246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549-CA5D-4E8B-8D5E-E8AC7A1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D74-DCB9-4CFB-8006-49B46B2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5E0-D4BE-4D91-809A-67C0C2E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3EE-0021-425B-A65B-06826CD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8B8-B750-4D7D-9D5F-B3CD52C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AB6-A903-4979-9F0B-E77840DA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6E8-CF92-46CB-9E1B-324EE562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F77-A236-442C-86D8-4191F6F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198-8D5E-40A5-A31B-7A93135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3A7-1FFB-433F-9AF6-5313DDC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8AE-4DD2-407E-AA40-CC2D37B91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imple Analy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0T15:34:13Z</dcterms:modified>
  <cp:revision>42</cp:revision>
  <dc:subject/>
  <dc:title>PowerPoint Presentation</dc:title>
</cp:coreProperties>
</file>